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F56-30FD-40A3-A712-2B501C00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14F-B02C-4188-9EF0-D443B6D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C0D-C0B3-4FFE-B99B-CDB718B8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C54-1002-4E22-B448-745A940A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5B3-AA3C-4CE3-B6E2-7217ACB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0A0-A288-45C3-81F4-4F7EA355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4CF-4656-42CF-BB55-CE383791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481-D922-4535-8360-2DF0576D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DFE-7EDD-45FB-9CAC-0D7A5BE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FE4-878B-4ADE-94C3-6927D5E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825-602E-48FF-86E5-53196441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945-2B67-423E-A9F9-41D14C9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517-F091-4CDA-9948-4C5F9814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e Knowledge Management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rganizational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organization chooses to respond to future events, based upon its past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52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cous and hard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va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09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t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why do we do things certain ways?  Who establishes Standard Operating Procedures (SOPs)?  How do we know these are correc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items of corporate lore passed on from one generation to another.  When we forget why things are done certain ways, we have just added to the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378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corporate and organizational cultures change slowly.  Change is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imes have you been re-organized in your career?  How many of these re-orgs implemented permanent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s inevitable, except from the vending mach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106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rganization has such a large repository of knowledge and memory that some things in this collection have ceased to be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n’t what you don’t know that will hurt you, but what you know that isn’t s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od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761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vasive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knowledge and beliefs, correct or otherwise, are everywhere within the organization.  Changing or correcting them is a long and difficult process.  Entropy is a powerful force for opposing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242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organization has been praised by Congress for its ability to “turn on a dime” to respond to new missions and tas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adical change in direction or leadership wipes the slate clean and tries to start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reinforced and supported at all levels, change reverts (remember TQ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588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d save a Word document on your network drive that describes each of the four attributes of corporate culture from your own experi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te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72388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148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3:31:05Z</dcterms:created>
  <dc:creator>Anne Brooker-Grogan</dc:creator>
  <dc:description/>
  <dc:language>en-US</dc:language>
  <cp:lastModifiedBy>Anne Brooker-Grogan</cp:lastModifiedBy>
  <dcterms:modified xsi:type="dcterms:W3CDTF">2010-02-15T07:58:09Z</dcterms:modified>
  <cp:revision>7</cp:revision>
  <dc:subject/>
  <dc:title>Slide 1</dc:title>
</cp:coreProperties>
</file>